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D5F-B5F3-4E7C-8B3C-E7A05408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199-2760-444E-A23D-CEC3A544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B0E-4378-4EA1-98E2-EC48B1FB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E0F-A8BE-43B5-BE08-DC0FF9A5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3F69-B96B-4E31-B831-229CB029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8F7-0428-4371-82E7-B22A7A11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D264-F8EF-47F1-8DC3-EDC2BB58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496B-726E-4E8F-B82A-1BD1A2EE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279B-FF7C-4F6C-9A09-417E6184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5C69-A9F3-4836-A3E3-77016AC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61AF-2B78-4BC9-A918-4DD61905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E62-B357-4971-A6B7-036B43B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A52D-13D5-4D99-B1F9-4E7CDC2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783E-2469-4610-9DC3-5201CB30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90AF-1039-4FA0-A0B8-11F7DD95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7E77-AB6F-424C-87E3-9ACF55D3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63B-B0FC-4A2E-8299-42F4F762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CAE-B43B-4491-BC70-E8B93617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B0C-DC53-4C4E-B1FC-29E7A3BA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9F4-F684-40D6-A364-DACB1D44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AA9-941B-45D2-9C86-2DD57805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F71-9C02-483A-AE2E-B7F032B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32C-5245-4A2D-84D8-A204E4D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3B8-FC8C-4A93-B292-B7A21F9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FFD9-A68F-4350-9205-468A38607E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C62-9C82-4DDC-ADD7-F19719BB44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OD BORNE DISEA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rator –Dr B S Ga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r - Dr Gaurij 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athogenesis and Transmiss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oculum / siz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infective dose -Can be as small as 10-100 bacterial cysts for Shigella , EHEC , Giardia, E. histolytic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10^ 5-10^ 8 for Vibrio cholera, variable for salmon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imals / humans harbouring infec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hed in fece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aminate water , fruits , vegetable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adequate cooking / improper storag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m temperature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-5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gree cent.)-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ication of patho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common bacterial food pois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066680"/>
          <a:ext cx="8763120" cy="445464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  <a:gridCol w="1981080"/>
                <a:gridCol w="23623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ubation      peri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on   f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6 h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 aureus (enterotox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usea, vomitting, diarrh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k n milk products, ham, poultry, salads, cust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lus cereu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enterotox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usea, vomitting, (emetic for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ed r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common bacterial food pois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295280"/>
          <a:ext cx="8686800" cy="510552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590920"/>
                <a:gridCol w="1752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ubation peri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on f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-16 h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n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spor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.cramp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arrh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usea 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mitting -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t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ultry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um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v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lus cereus ( diarrheal form-  preformed n stable toxin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arrhea, abd.pain, nausea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mitting/fever-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common bacterial food pois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143000"/>
          <a:ext cx="8229600" cy="46720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ubation peri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on      f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16 h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ce watery stoo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ter and ice cream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 s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mmatory diarrh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t , milk n milk products, poul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  s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yse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tato/raw eggs-sal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Early diagnosis and investig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Initial assess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cases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tail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nical histo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cluding time of onset , duration of illness , symptoms , h /o travel , recent meals , cooking and refrigeration , details of others with similar complaint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tailed cli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amin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tals and degree of dehydration , system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Lab diagnosi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 objectives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To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firm  clinical diagn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olation of causative ag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proper samples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 . stool , vomitus / gastric aspirate , food specim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Ensure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per  identific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sea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usative ag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f present in food sources with relevant epidemiological markers- eg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otyping , serotyping , PCR , Phage typing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ollection of food samp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eptic techniqu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ropriate container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amples b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friger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uring storage and transpor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us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ive lab within 3 days of colle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equ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ample - minimum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0 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aine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not to be fill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&gt;75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capa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per labell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utmost importa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belled specimen be placed i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ip lock ba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al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ccine carri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 ice packs for transport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d cha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intenance ( avoid freezing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s of outbreak investi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Rounded Rectangle 7"/>
          <p:cNvGrpSpPr/>
          <p:nvPr/>
        </p:nvGrpSpPr>
        <p:grpSpPr>
          <a:xfrm>
            <a:off x="2819520" y="380880"/>
            <a:ext cx="3851280" cy="566640"/>
            <a:chOff x="2819520" y="380880"/>
            <a:chExt cx="3851280" cy="566640"/>
          </a:xfrm>
        </p:grpSpPr>
        <p:pic>
          <p:nvPicPr>
            <p:cNvPr id="11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2819520" y="380880"/>
              <a:ext cx="3851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01960" y="43632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stablishing existenc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ounded Rectangle 14"/>
          <p:cNvGrpSpPr/>
          <p:nvPr/>
        </p:nvGrpSpPr>
        <p:grpSpPr>
          <a:xfrm>
            <a:off x="2835360" y="1030320"/>
            <a:ext cx="3851280" cy="566640"/>
            <a:chOff x="2835360" y="1030320"/>
            <a:chExt cx="3851280" cy="566640"/>
          </a:xfrm>
        </p:grpSpPr>
        <p:pic>
          <p:nvPicPr>
            <p:cNvPr id="120" name="Rounded Rectangle 14" descr=""/>
            <p:cNvPicPr/>
            <p:nvPr/>
          </p:nvPicPr>
          <p:blipFill>
            <a:blip r:embed="rId3"/>
            <a:stretch/>
          </p:blipFill>
          <p:spPr>
            <a:xfrm>
              <a:off x="2835360" y="1030320"/>
              <a:ext cx="3851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917800" y="108900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-ordin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ounded Rectangle 15"/>
          <p:cNvGrpSpPr/>
          <p:nvPr/>
        </p:nvGrpSpPr>
        <p:grpSpPr>
          <a:xfrm>
            <a:off x="2835360" y="1566720"/>
            <a:ext cx="3851280" cy="567000"/>
            <a:chOff x="2835360" y="1566720"/>
            <a:chExt cx="3851280" cy="567000"/>
          </a:xfrm>
        </p:grpSpPr>
        <p:pic>
          <p:nvPicPr>
            <p:cNvPr id="123" name="Rounded Rectangle 15" descr=""/>
            <p:cNvPicPr/>
            <p:nvPr/>
          </p:nvPicPr>
          <p:blipFill>
            <a:blip r:embed="rId4"/>
            <a:stretch/>
          </p:blipFill>
          <p:spPr>
            <a:xfrm>
              <a:off x="2835360" y="1566720"/>
              <a:ext cx="38512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917800" y="1622520"/>
              <a:ext cx="3689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llec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Rounded Rectangle 16"/>
          <p:cNvGrpSpPr/>
          <p:nvPr/>
        </p:nvGrpSpPr>
        <p:grpSpPr>
          <a:xfrm>
            <a:off x="2835360" y="2097000"/>
            <a:ext cx="3851280" cy="567000"/>
            <a:chOff x="2835360" y="2097000"/>
            <a:chExt cx="3851280" cy="567000"/>
          </a:xfrm>
        </p:grpSpPr>
        <p:pic>
          <p:nvPicPr>
            <p:cNvPr id="126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2835360" y="2097000"/>
              <a:ext cx="38512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17800" y="215568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b tes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Rounded Rectangle 17"/>
          <p:cNvGrpSpPr/>
          <p:nvPr/>
        </p:nvGrpSpPr>
        <p:grpSpPr>
          <a:xfrm>
            <a:off x="2809800" y="2706840"/>
            <a:ext cx="4024440" cy="566640"/>
            <a:chOff x="2809800" y="2706840"/>
            <a:chExt cx="4024440" cy="566640"/>
          </a:xfrm>
        </p:grpSpPr>
        <p:pic>
          <p:nvPicPr>
            <p:cNvPr id="129" name="Rounded Rectangle 17" descr=""/>
            <p:cNvPicPr/>
            <p:nvPr/>
          </p:nvPicPr>
          <p:blipFill>
            <a:blip r:embed="rId6"/>
            <a:stretch/>
          </p:blipFill>
          <p:spPr>
            <a:xfrm>
              <a:off x="2809800" y="2706840"/>
              <a:ext cx="40244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917800" y="2765520"/>
              <a:ext cx="3689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trol and preventive measu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Rounded Rectangle 18"/>
          <p:cNvGrpSpPr/>
          <p:nvPr/>
        </p:nvGrpSpPr>
        <p:grpSpPr>
          <a:xfrm>
            <a:off x="2809800" y="3316320"/>
            <a:ext cx="3876840" cy="566640"/>
            <a:chOff x="2809800" y="3316320"/>
            <a:chExt cx="3876840" cy="566640"/>
          </a:xfrm>
        </p:grpSpPr>
        <p:pic>
          <p:nvPicPr>
            <p:cNvPr id="132" name="Rounded Rectangle 18" descr=""/>
            <p:cNvPicPr/>
            <p:nvPr/>
          </p:nvPicPr>
          <p:blipFill>
            <a:blip r:embed="rId7"/>
            <a:stretch/>
          </p:blipFill>
          <p:spPr>
            <a:xfrm>
              <a:off x="2809800" y="3316320"/>
              <a:ext cx="3876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917800" y="337500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ition of cases, popul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Rounded Rectangle 19"/>
          <p:cNvGrpSpPr/>
          <p:nvPr/>
        </p:nvGrpSpPr>
        <p:grpSpPr>
          <a:xfrm>
            <a:off x="2809800" y="4005360"/>
            <a:ext cx="3876840" cy="566640"/>
            <a:chOff x="2809800" y="4005360"/>
            <a:chExt cx="3876840" cy="566640"/>
          </a:xfrm>
        </p:grpSpPr>
        <p:pic>
          <p:nvPicPr>
            <p:cNvPr id="135" name="Rounded Rectangle 19" descr=""/>
            <p:cNvPicPr/>
            <p:nvPr/>
          </p:nvPicPr>
          <p:blipFill>
            <a:blip r:embed="rId8"/>
            <a:stretch/>
          </p:blipFill>
          <p:spPr>
            <a:xfrm>
              <a:off x="2809800" y="4005360"/>
              <a:ext cx="3876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917800" y="4060800"/>
              <a:ext cx="36892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cription of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idemiolog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Rounded Rectangle 20"/>
          <p:cNvGrpSpPr/>
          <p:nvPr/>
        </p:nvGrpSpPr>
        <p:grpSpPr>
          <a:xfrm>
            <a:off x="2835360" y="4614840"/>
            <a:ext cx="3773520" cy="566640"/>
            <a:chOff x="2835360" y="4614840"/>
            <a:chExt cx="3773520" cy="566640"/>
          </a:xfrm>
        </p:grpSpPr>
        <p:pic>
          <p:nvPicPr>
            <p:cNvPr id="138" name="Rounded Rectangle 20" descr=""/>
            <p:cNvPicPr/>
            <p:nvPr/>
          </p:nvPicPr>
          <p:blipFill>
            <a:blip r:embed="rId9"/>
            <a:stretch/>
          </p:blipFill>
          <p:spPr>
            <a:xfrm>
              <a:off x="2835360" y="4614840"/>
              <a:ext cx="37735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917800" y="4670280"/>
              <a:ext cx="36133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ssibl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ypothe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Rounded Rectangle 21"/>
          <p:cNvGrpSpPr/>
          <p:nvPr/>
        </p:nvGrpSpPr>
        <p:grpSpPr>
          <a:xfrm>
            <a:off x="2835360" y="5224320"/>
            <a:ext cx="3773520" cy="567000"/>
            <a:chOff x="2835360" y="5224320"/>
            <a:chExt cx="3773520" cy="567000"/>
          </a:xfrm>
        </p:grpSpPr>
        <p:pic>
          <p:nvPicPr>
            <p:cNvPr id="141" name="Rounded Rectangle 21" descr=""/>
            <p:cNvPicPr/>
            <p:nvPr/>
          </p:nvPicPr>
          <p:blipFill>
            <a:blip r:embed="rId10"/>
            <a:stretch/>
          </p:blipFill>
          <p:spPr>
            <a:xfrm>
              <a:off x="2835360" y="5224320"/>
              <a:ext cx="37735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917800" y="5280120"/>
              <a:ext cx="36133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idemiological stu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ounded Rectangle 22"/>
          <p:cNvGrpSpPr/>
          <p:nvPr/>
        </p:nvGrpSpPr>
        <p:grpSpPr>
          <a:xfrm>
            <a:off x="2657520" y="5754600"/>
            <a:ext cx="4181400" cy="567000"/>
            <a:chOff x="2657520" y="5754600"/>
            <a:chExt cx="4181400" cy="567000"/>
          </a:xfrm>
        </p:grpSpPr>
        <p:pic>
          <p:nvPicPr>
            <p:cNvPr id="144" name="Rounded Rectangle 22" descr=""/>
            <p:cNvPicPr/>
            <p:nvPr/>
          </p:nvPicPr>
          <p:blipFill>
            <a:blip r:embed="rId11"/>
            <a:stretch/>
          </p:blipFill>
          <p:spPr>
            <a:xfrm>
              <a:off x="2657520" y="5754600"/>
              <a:ext cx="41814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65520" y="5813280"/>
              <a:ext cx="3994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nalysis of dat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pre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ounded Rectangle 23"/>
          <p:cNvGrpSpPr/>
          <p:nvPr/>
        </p:nvGrpSpPr>
        <p:grpSpPr>
          <a:xfrm>
            <a:off x="2835360" y="6364440"/>
            <a:ext cx="3851280" cy="566640"/>
            <a:chOff x="2835360" y="6364440"/>
            <a:chExt cx="3851280" cy="566640"/>
          </a:xfrm>
        </p:grpSpPr>
        <p:pic>
          <p:nvPicPr>
            <p:cNvPr id="147" name="Rounded Rectangle 23" descr=""/>
            <p:cNvPicPr/>
            <p:nvPr/>
          </p:nvPicPr>
          <p:blipFill>
            <a:blip r:embed="rId12"/>
            <a:stretch/>
          </p:blipFill>
          <p:spPr>
            <a:xfrm>
              <a:off x="2835360" y="6364440"/>
              <a:ext cx="3851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917800" y="6423120"/>
              <a:ext cx="3689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por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Down Arrow 24"/>
          <p:cNvGrpSpPr/>
          <p:nvPr/>
        </p:nvGrpSpPr>
        <p:grpSpPr>
          <a:xfrm>
            <a:off x="4511520" y="878040"/>
            <a:ext cx="603360" cy="261720"/>
            <a:chOff x="4511520" y="878040"/>
            <a:chExt cx="603360" cy="261720"/>
          </a:xfrm>
        </p:grpSpPr>
        <p:pic>
          <p:nvPicPr>
            <p:cNvPr id="150" name="Down Arrow 24" descr=""/>
            <p:cNvPicPr/>
            <p:nvPr/>
          </p:nvPicPr>
          <p:blipFill>
            <a:blip r:embed="rId13"/>
            <a:stretch/>
          </p:blipFill>
          <p:spPr>
            <a:xfrm>
              <a:off x="4511520" y="878040"/>
              <a:ext cx="6033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692600" y="914400"/>
              <a:ext cx="2430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Down Arrow 25"/>
          <p:cNvGrpSpPr/>
          <p:nvPr/>
        </p:nvGrpSpPr>
        <p:grpSpPr>
          <a:xfrm>
            <a:off x="4511520" y="1414440"/>
            <a:ext cx="603360" cy="335160"/>
            <a:chOff x="4511520" y="1414440"/>
            <a:chExt cx="603360" cy="335160"/>
          </a:xfrm>
        </p:grpSpPr>
        <p:pic>
          <p:nvPicPr>
            <p:cNvPr id="153" name="Down Arrow 25" descr=""/>
            <p:cNvPicPr/>
            <p:nvPr/>
          </p:nvPicPr>
          <p:blipFill>
            <a:blip r:embed="rId14"/>
            <a:stretch/>
          </p:blipFill>
          <p:spPr>
            <a:xfrm>
              <a:off x="4511520" y="1414440"/>
              <a:ext cx="6033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92600" y="144792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Down Arrow 26"/>
          <p:cNvGrpSpPr/>
          <p:nvPr/>
        </p:nvGrpSpPr>
        <p:grpSpPr>
          <a:xfrm>
            <a:off x="4511520" y="1871640"/>
            <a:ext cx="603360" cy="335160"/>
            <a:chOff x="4511520" y="1871640"/>
            <a:chExt cx="603360" cy="335160"/>
          </a:xfrm>
        </p:grpSpPr>
        <p:pic>
          <p:nvPicPr>
            <p:cNvPr id="156" name="Down Arrow 26" descr=""/>
            <p:cNvPicPr/>
            <p:nvPr/>
          </p:nvPicPr>
          <p:blipFill>
            <a:blip r:embed="rId15"/>
            <a:stretch/>
          </p:blipFill>
          <p:spPr>
            <a:xfrm>
              <a:off x="4511520" y="1871640"/>
              <a:ext cx="6033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692600" y="190512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Down Arrow 27"/>
          <p:cNvGrpSpPr/>
          <p:nvPr/>
        </p:nvGrpSpPr>
        <p:grpSpPr>
          <a:xfrm>
            <a:off x="4511520" y="2481120"/>
            <a:ext cx="603360" cy="335160"/>
            <a:chOff x="4511520" y="2481120"/>
            <a:chExt cx="603360" cy="335160"/>
          </a:xfrm>
        </p:grpSpPr>
        <p:pic>
          <p:nvPicPr>
            <p:cNvPr id="159" name="Down Arrow 27" descr=""/>
            <p:cNvPicPr/>
            <p:nvPr/>
          </p:nvPicPr>
          <p:blipFill>
            <a:blip r:embed="rId16"/>
            <a:stretch/>
          </p:blipFill>
          <p:spPr>
            <a:xfrm>
              <a:off x="4511520" y="2481120"/>
              <a:ext cx="6033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92600" y="251460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Down Arrow 28"/>
          <p:cNvGrpSpPr/>
          <p:nvPr/>
        </p:nvGrpSpPr>
        <p:grpSpPr>
          <a:xfrm>
            <a:off x="4438800" y="3090960"/>
            <a:ext cx="596880" cy="334800"/>
            <a:chOff x="4438800" y="3090960"/>
            <a:chExt cx="596880" cy="334800"/>
          </a:xfrm>
        </p:grpSpPr>
        <p:pic>
          <p:nvPicPr>
            <p:cNvPr id="162" name="Down Arrow 28" descr=""/>
            <p:cNvPicPr/>
            <p:nvPr/>
          </p:nvPicPr>
          <p:blipFill>
            <a:blip r:embed="rId17"/>
            <a:stretch/>
          </p:blipFill>
          <p:spPr>
            <a:xfrm>
              <a:off x="4438800" y="3090960"/>
              <a:ext cx="5968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16280" y="3124080"/>
              <a:ext cx="2430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Down Arrow 29"/>
          <p:cNvGrpSpPr/>
          <p:nvPr/>
        </p:nvGrpSpPr>
        <p:grpSpPr>
          <a:xfrm>
            <a:off x="4438800" y="3773520"/>
            <a:ext cx="596880" cy="341280"/>
            <a:chOff x="4438800" y="3773520"/>
            <a:chExt cx="596880" cy="341280"/>
          </a:xfrm>
        </p:grpSpPr>
        <p:pic>
          <p:nvPicPr>
            <p:cNvPr id="165" name="Down Arrow 29" descr=""/>
            <p:cNvPicPr/>
            <p:nvPr/>
          </p:nvPicPr>
          <p:blipFill>
            <a:blip r:embed="rId18"/>
            <a:stretch/>
          </p:blipFill>
          <p:spPr>
            <a:xfrm>
              <a:off x="4438800" y="3773520"/>
              <a:ext cx="596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616280" y="3809880"/>
              <a:ext cx="2430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Down Arrow 30"/>
          <p:cNvGrpSpPr/>
          <p:nvPr/>
        </p:nvGrpSpPr>
        <p:grpSpPr>
          <a:xfrm>
            <a:off x="4438800" y="4383000"/>
            <a:ext cx="596880" cy="341280"/>
            <a:chOff x="4438800" y="4383000"/>
            <a:chExt cx="596880" cy="341280"/>
          </a:xfrm>
        </p:grpSpPr>
        <p:pic>
          <p:nvPicPr>
            <p:cNvPr id="168" name="Down Arrow 30" descr=""/>
            <p:cNvPicPr/>
            <p:nvPr/>
          </p:nvPicPr>
          <p:blipFill>
            <a:blip r:embed="rId19"/>
            <a:stretch/>
          </p:blipFill>
          <p:spPr>
            <a:xfrm>
              <a:off x="4438800" y="4383000"/>
              <a:ext cx="596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16280" y="441972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Down Arrow 31"/>
          <p:cNvGrpSpPr/>
          <p:nvPr/>
        </p:nvGrpSpPr>
        <p:grpSpPr>
          <a:xfrm>
            <a:off x="4438800" y="4992840"/>
            <a:ext cx="596880" cy="341280"/>
            <a:chOff x="4438800" y="4992840"/>
            <a:chExt cx="596880" cy="341280"/>
          </a:xfrm>
        </p:grpSpPr>
        <p:pic>
          <p:nvPicPr>
            <p:cNvPr id="171" name="Down Arrow 31" descr=""/>
            <p:cNvPicPr/>
            <p:nvPr/>
          </p:nvPicPr>
          <p:blipFill>
            <a:blip r:embed="rId20"/>
            <a:stretch/>
          </p:blipFill>
          <p:spPr>
            <a:xfrm>
              <a:off x="4438800" y="4992840"/>
              <a:ext cx="596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616280" y="5029200"/>
              <a:ext cx="24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Down Arrow 32"/>
          <p:cNvGrpSpPr/>
          <p:nvPr/>
        </p:nvGrpSpPr>
        <p:grpSpPr>
          <a:xfrm>
            <a:off x="4359240" y="5602320"/>
            <a:ext cx="603360" cy="341280"/>
            <a:chOff x="4359240" y="5602320"/>
            <a:chExt cx="603360" cy="341280"/>
          </a:xfrm>
        </p:grpSpPr>
        <p:pic>
          <p:nvPicPr>
            <p:cNvPr id="174" name="Down Arrow 32" descr=""/>
            <p:cNvPicPr/>
            <p:nvPr/>
          </p:nvPicPr>
          <p:blipFill>
            <a:blip r:embed="rId21"/>
            <a:stretch/>
          </p:blipFill>
          <p:spPr>
            <a:xfrm>
              <a:off x="4359240" y="5602320"/>
              <a:ext cx="603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540320" y="5638680"/>
              <a:ext cx="2426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Down Arrow 33"/>
          <p:cNvGrpSpPr/>
          <p:nvPr/>
        </p:nvGrpSpPr>
        <p:grpSpPr>
          <a:xfrm>
            <a:off x="4359240" y="6211800"/>
            <a:ext cx="603360" cy="341280"/>
            <a:chOff x="4359240" y="6211800"/>
            <a:chExt cx="603360" cy="341280"/>
          </a:xfrm>
        </p:grpSpPr>
        <p:pic>
          <p:nvPicPr>
            <p:cNvPr id="177" name="Down Arrow 33" descr=""/>
            <p:cNvPicPr/>
            <p:nvPr/>
          </p:nvPicPr>
          <p:blipFill>
            <a:blip r:embed="rId22"/>
            <a:stretch/>
          </p:blipFill>
          <p:spPr>
            <a:xfrm>
              <a:off x="4359240" y="6211800"/>
              <a:ext cx="603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40320" y="6248520"/>
              <a:ext cx="2426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reatmen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Initial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t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vers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hydr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 IV Fluids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Cause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treatment if any- eg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ela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gents in case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stic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is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bioti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n be considered if bacterial cause is ident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s of outbreak investig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ablishing existe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outbreak(detailed baseline epidemiological informa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-ordin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 key personnel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nspo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clinical specimens and food samples for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b testing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ol and preventive measur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finition of cases,popul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 risk and finding cas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ption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miology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ssib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othes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miological stud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valuate hypothese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alysis of 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pretation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por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indings of outbreak investi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od borne Disea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Pathogenesis and Trans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Important  foodborne pathogens/toxins/chemic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Investigations and Lab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Treatment and Preven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revention in community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 handwashing and personal hyg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 storage (refriger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saftey education – community and food handl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al measures - Discourage sewage farming for growing fruits and veget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revent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zard Analysis and Critical Control Point (HACCP)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atic preventive approach to food saf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es physical , chemical and biological hazards as means of prevention rather than finished product insp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industry - Food safety hazards identified at all stages of food production and preparation processe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ey action taken at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itical Control Points (CCP 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rinciples of Hazard Analysis and Critical Control Point ( HACCP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se hazard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dentify critical control point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preventive measures with critical limits for each CCP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procedures to monitor CCP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corrective actions when monitoring shows that critical limit has not me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procedures to verify that system is working properl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ablish effective record keeping for documen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afety Regulations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ion of Food Adulteration Act , 1954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 Ensure pure  and  wholesome food and to protect from fradulen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ndments -1964,1976,198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of proven adulteration –Minimum imprisonment of 6 months and minimum fine of Rs 1000 envisag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ievous Hurt-(320 IPC)- Death or such harm can be punished upto Life imprisonment and fine not &lt;Rs 5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Standards- Codex Alimentarius , Agmark standard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reau of Indian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Nutrition Policy -1993- Food Secur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ive keys to Safer foo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Keep Clea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hands before handling food and often du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hands after going to toil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n sanitise all surfaces n equipment for food preparation-protect kitchen from insects , p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Separate raw and coo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 raw meat , poultry n seafood from other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separate utensils for handling raw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 food in containers to avoid contact between raw and cooked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ive Keys to Safer Foo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Cook Thoroughl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. Meat , poultry , eggs and Sea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ng soups n stews to boiling (ensure&gt;70degree tem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heat cooked food thorough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 Keep food at safe temperature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t leave cooked food at room temp.&gt;2 h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pt refrigeration of cooked n perishable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cooked food piping hot(&gt;60 de.) prior  to ser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store food too long even in refrig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thaw frozen food at room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ive keys to safer foo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 Use safe water and raw materials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safe water or treat to make it sa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fresh and wholesome fr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foods processed for safety - pasteurised mi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 fruits n vegetables if eaten r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use food beyond expiry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ferenc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CD Alert – December 2009, vol.13:No.4 – Food Borne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s, page no. 1-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Parks Textbook of PSM , Twentieth Edition, Intesti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ns –Food Poisoning , page no. 210-21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Internet- www.nicd.nic.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-419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NK   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Introdu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 borne disease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oxica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e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Covers illnesses acquired through consumption of contaminated food-food poiso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 bor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 outbreaks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rence of 2 or more cases of similar illness resulting from ingestion of common f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observed number of paticular disease exceeds expected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.Introduction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obal burden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bid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t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ectious  diarrhoea- 3 to 5 billion c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8 million death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nual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DC- 76 million c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food borne diseases in US annually with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x.5000 dea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dia- Integrated disease surveillance Project (IDSP)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poisoning outbreak reporting increased to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e than double in 200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2008 (120 in 2009 and 50 in 200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ood borne infections vs intoxica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44960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1" lang="en-US" sz="2800" spc="-1" strike="noStrike" u="sng">
                <a:solidFill>
                  <a:srgbClr val="663300"/>
                </a:solidFill>
                <a:uFillTx/>
                <a:latin typeface="Tahoma"/>
              </a:rPr>
              <a:t>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acterial / Viral / para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Invad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and  or  </a:t>
            </a: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multipl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lining  of  intest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Incubation period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            hours  to  da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S/s –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arrhoea , nausea, vomitting , abdominal cramps, fe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Communicabl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spreads from person to 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Factor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inadequate cooking, cross contamination , poor personal hygiene , bare hand cont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0" y="685800"/>
            <a:ext cx="4572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1" lang="en-US" sz="2000" spc="-1" strike="noStrike" u="sng">
                <a:solidFill>
                  <a:srgbClr val="6633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663300"/>
                </a:solidFill>
                <a:uFillTx/>
                <a:latin typeface="Tahoma"/>
              </a:rPr>
              <a:t>Intox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xins ( natural / preformed bacterial / chemic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No invas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or  multipl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Incubation period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nutes to h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S/s –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Vomitting , nausea, diarrhea , diplopia, weakness, resp. failure , numbness, sensory/motor dys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Not communic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Factor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inadequate cooking , improper handling temper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Epidemiology in Ind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981080"/>
          <a:ext cx="8458200" cy="441972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676520"/>
                <a:gridCol w="1752480"/>
                <a:gridCol w="2133720"/>
              </a:tblGrid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opl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fec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icated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 paratyphi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avat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getarian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butyric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ujarat-   residential scho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vu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ram flour cris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eritid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med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c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n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ozen fow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Epidemiology in Ind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066680"/>
          <a:ext cx="8534520" cy="55371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600200"/>
                <a:gridCol w="1371600"/>
                <a:gridCol w="25909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opl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fec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icated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 like  Vir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hi 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r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a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ndwich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. Aure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100 children 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ul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halla ( fried potato ball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 welteverd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 We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-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gal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ck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ome important food-borne pathogens, toxins and chemical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Bacteri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acillus cereus , Brucella , Campylobacter, Clostridium sp , E.coli, Salmonella sp , Listeria , Staph aureus , Vibrio cholera and V.parahemolytic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Virus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patitis A and E , Rotavirus , Norvo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Protozo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Cryptosporidium , Cyclospora , Entamoeba , Giardia , T. gond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 Trematodes , Cestodes  and  Nemat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Food borne pathogens-toxins and chemical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arine biotoxins , tetrodotoxin (puffer fish), pyrrolizidine alka (Endemic ascites) , mushroom toxins , shellfish toxins , mycotoxins-(Aflatoxins ,Ergot and Fusarium), plant intoxicants , BOAA (Lathyris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emica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sticides (OPP,sb) , radionuclides , nitrites (food preservatives) toxic metals - cd, cu, hg, pb, sn, fluoride , MS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03:29:54Z</dcterms:created>
  <dc:creator>com</dc:creator>
  <dc:description/>
  <dc:language>en-US</dc:language>
  <cp:lastModifiedBy>com</cp:lastModifiedBy>
  <dcterms:modified xsi:type="dcterms:W3CDTF">2010-06-29T08:26:35Z</dcterms:modified>
  <cp:revision>102</cp:revision>
  <dc:subject/>
  <dc:title>Food borne Diseases</dc:title>
</cp:coreProperties>
</file>